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ACD-DFDE-4336-A358-4CC4DC92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E6A-C79A-4628-8847-92316AE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7ED-2B63-4381-9520-32D3FF19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4E2-C262-4B30-BD06-9FE9EE55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E15-2DF0-4EAA-9CA7-7342D364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F74-233C-4448-8D7A-1C9240D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391-6A09-4817-BA3F-359A577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053-415E-4C9D-9E10-A0665D76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0C2-27FC-4E9F-A75D-156E64A1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DC6-0E10-4792-9DD2-1FACBE1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711-3053-4652-8660-AB1164D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56D-796F-49F2-881E-CAA74BC3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0F12-5079-4D4E-81AC-310C3914C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lectrical activity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441360"/>
            <a:ext cx="8820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s conductance decrea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K ions conductance pers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ons outflow returns to membrane potential to Nernst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473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ing membrane poten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 with equal conductance for positive and negative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potential remains at the value of Nernst’s potential f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s://www.urmc.rochester.edu/Encyclopedia/GetImage.aspx?ImageID=125477"/>
          <p:cNvPicPr/>
          <p:nvPr/>
        </p:nvPicPr>
        <p:blipFill>
          <a:blip r:embed="rId1"/>
          <a:stretch/>
        </p:blipFill>
        <p:spPr>
          <a:xfrm>
            <a:off x="1042920" y="378000"/>
            <a:ext cx="7129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 system of the heart: sinoatrial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atrioventricular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ysiologic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heart b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table resting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ann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s-Purkinje’s syste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latent pacemaker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replace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up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25560" y="264492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ce of phas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ntaneous depolarizat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etermine heart ra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highest in SA 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short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slowest is His-Purkinje’s syste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is-Purkinje’s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reason why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de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 pacemaker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 Purkinje’s fib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5-4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6"/>
          <p:cNvSpPr/>
          <p:nvPr/>
        </p:nvSpPr>
        <p:spPr>
          <a:xfrm>
            <a:off x="324000" y="6588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w and spontaneous depolar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ause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emaker activity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atis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well as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 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-Purkinje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s as a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50"/>
          <p:cNvSpPr/>
          <p:nvPr/>
        </p:nvSpPr>
        <p:spPr>
          <a:xfrm>
            <a:off x="250920" y="74556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membran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ed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ions inflow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most reaching the value of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ce in ions transf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atrial and ventricular muscles in pha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241200" y="643320"/>
            <a:ext cx="864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sequence of increase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ductanc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 ions out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larization of membran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 phases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26"/>
          <p:cNvSpPr/>
          <p:nvPr/>
        </p:nvSpPr>
        <p:spPr>
          <a:xfrm>
            <a:off x="395280" y="353880"/>
            <a:ext cx="85694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ing down of impuls transmission in AV nod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ive fibe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r diame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an SA n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p jun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ncreased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03968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time required for excitation transmission through cardiac t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s on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ve ions inflow during phas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positive correl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His-Purkinje’s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llowing the synchronized ventricular contrac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ANATOMY OF THE CARDIAC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685880"/>
            <a:ext cx="3830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alated dis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located at the end of cardiac muscle cells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Gap junction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 to 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ntercalated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low electrical resistance pathway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rapid signal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cardiac muscle to operate a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yncy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1268280"/>
            <a:ext cx="3353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uctance veloc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west in AV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llowing the ventricular fill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velocity increases – insufficient ventricular fillin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8000" y="311760"/>
            <a:ext cx="49687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 numer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ep cell membrane invagination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ger di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 in skeletal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ted in th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the transfer of action potential into the muscl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robust in chambers (than in atri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th sarcoplasmic ret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 voltage-dependent calcium receptor -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hydropyridine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08000" y="1699560"/>
            <a:ext cx="468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rcoplasmic reticulum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 diameter tubules located near contractil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of calcium ions and releasing site for calcium ions (excitation and contra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calcium channels 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anodine receptors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yR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HYTHMIC EXCITATION OF THE HE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diac muscle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ial and ventricular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conduction system (specialized muscle fib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n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node – АV bund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 bu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kinje’s fi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50840" y="1778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OF THE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080000"/>
            <a:ext cx="85690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tricule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ria and Purkinj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e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pp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reaching the Nernst’s potential fo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n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specially in Purkinje’s fibers (30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79160" y="4292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330840"/>
            <a:ext cx="851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epolar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increase of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e to transi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permeability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ch allows enter of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ns and depolarize the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ches the Nernst’s potential for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8680" y="489600"/>
            <a:ext cx="835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repolarizatio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ions outflow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ly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 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ed by chemical and electrical gradi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ly du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d permeability for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o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228600"/>
            <a:ext cx="8497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s as a conseque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taneous increase in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+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duc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flow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 still remaining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conduc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ut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ons transfer is almost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the membrane potential remains its valu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isoelectric, plate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23-10-10T12:20:06Z</dcterms:modified>
  <cp:revision>259</cp:revision>
  <dc:subject/>
  <dc:title>Slide 1</dc:title>
</cp:coreProperties>
</file>